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WHOOSH.WAV" ContentType="audio/x-wav"/>
  <Override PartName="/ppt/media/image8.png" ContentType="image/png"/>
  <Override PartName="/ppt/media/image9.png" ContentType="image/png"/>
  <Override PartName="/ppt/media/chimes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wmf" ContentType="image/x-wmf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10FC8-70AF-498D-A27F-D60957D6276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9355-9796-4833-B3BA-DACCCC526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1D46-29C9-4713-804E-054768F0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7ED4F-E6B9-4B40-92C7-2A5CEBE2BA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1BD9-FEE9-4BCB-AE25-64E12168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D090-5E25-46A7-84F8-E702C162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57525-C7A7-41D1-8953-CB381348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79FDA-EB2E-4746-9E24-D081F144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F3057-6236-44D1-942A-CEC459845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A67C-A925-4F71-B003-D68EEACF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F716-96F8-48CF-B0BA-D5F26885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02B8E-6AD3-47E7-9353-4C3A95D2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3FFD-4BC7-4E71-A95C-93314A2FC5B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27280" y="2204640"/>
            <a:ext cx="460872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绪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85880" y="5300280"/>
            <a:ext cx="67104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福建医科大学护理学院     林晓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7859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解剖：外形（身长、体重）、比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5219640" y="1916280"/>
            <a:ext cx="990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8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2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2" name="Picture 4" descr="bb1"/>
          <p:cNvPicPr/>
          <p:nvPr/>
        </p:nvPicPr>
        <p:blipFill>
          <a:blip r:embed="rId1"/>
          <a:stretch/>
        </p:blipFill>
        <p:spPr>
          <a:xfrm>
            <a:off x="1116000" y="3357720"/>
            <a:ext cx="952560" cy="1439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bb7"/>
          <p:cNvPicPr/>
          <p:nvPr/>
        </p:nvPicPr>
        <p:blipFill>
          <a:blip r:embed="rId2"/>
          <a:stretch/>
        </p:blipFill>
        <p:spPr>
          <a:xfrm>
            <a:off x="2987640" y="3357720"/>
            <a:ext cx="1162080" cy="135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bb11"/>
          <p:cNvPicPr/>
          <p:nvPr/>
        </p:nvPicPr>
        <p:blipFill>
          <a:blip r:embed="rId3"/>
          <a:stretch/>
        </p:blipFill>
        <p:spPr>
          <a:xfrm>
            <a:off x="5003640" y="3141720"/>
            <a:ext cx="1224000" cy="1728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971640" y="1916280"/>
            <a:ext cx="1371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出生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身长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50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体重</a:t>
            </a: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3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203640" y="1916280"/>
            <a:ext cx="1143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75cm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9kg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684360" y="48690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：各系统器官的生理机能随着年龄的增长逐渐发育成熟，如呼吸、心率、血压、营养代谢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26920" y="1484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免疫：免疫力低，易患各种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理：肺炎球菌感染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Vit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理：可塑性强，因势利导促发育；培养良好的个性及行为习惯。根据不同年龄阶段的心理行为发育特征和需求，采取相应的护理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44380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以感染性、先天性、遗传性多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临床表现年龄愈小愈不典型，起病急、变化快、症状重、受累系统多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治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诊断注意年龄特点、病史、病情观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治疗应注意剂量、方法，及时处理并发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3520" y="1267920"/>
            <a:ext cx="815328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后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可治之症比成人多，恢复比成人快，后遗症比成人少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9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计划免疫，筛查先天性和遗传性疾病，防止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童意外伤残。亦要注意成人疾病和老年疾病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童期预防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0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特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作轻柔，注意皮肤等清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4" name="Object 3"/>
          <p:cNvGraphicFramePr/>
          <p:nvPr/>
        </p:nvGraphicFramePr>
        <p:xfrm>
          <a:off x="7051680" y="3328920"/>
          <a:ext cx="2092320" cy="35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51680" y="3328920"/>
                    <a:ext cx="20923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Text Box 4"/>
          <p:cNvSpPr/>
          <p:nvPr/>
        </p:nvSpPr>
        <p:spPr>
          <a:xfrm>
            <a:off x="6227640" y="404640"/>
            <a:ext cx="24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儿科特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90360" y="1752480"/>
            <a:ext cx="739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儿童及其家庭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减少创伤和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遵守法律和伦理道德规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4788000" y="404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儿科护理的一般原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5492880" cy="609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rmAutofit/>
          </a:bodyPr>
          <a:p>
            <a:pPr marL="3556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     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小儿年龄分期：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7 </a:t>
            </a:r>
            <a:r>
              <a:rPr b="0" lang="zh-CN" sz="2500" spc="-1" strike="noStrike">
                <a:solidFill>
                  <a:srgbClr val="046ca6"/>
                </a:solidFill>
                <a:latin typeface="黑体"/>
                <a:ea typeface="黑体"/>
              </a:rPr>
              <a:t>个时期</a:t>
            </a:r>
            <a:endParaRPr b="1" lang="en-US" sz="25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6820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ff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胎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AutoShape 6"/>
          <p:cNvSpPr/>
          <p:nvPr/>
        </p:nvSpPr>
        <p:spPr>
          <a:xfrm>
            <a:off x="1538280" y="3087720"/>
            <a:ext cx="1241280" cy="2454120"/>
          </a:xfrm>
          <a:prstGeom prst="rightArrowCallout">
            <a:avLst>
              <a:gd name="adj1" fmla="val 49432"/>
              <a:gd name="adj2" fmla="val 49427"/>
              <a:gd name="adj3" fmla="val 16667"/>
              <a:gd name="adj4" fmla="val 66667"/>
            </a:avLst>
          </a:prstGeom>
          <a:solidFill>
            <a:srgbClr val="fef79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新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AutoShape 7"/>
          <p:cNvSpPr/>
          <p:nvPr/>
        </p:nvSpPr>
        <p:spPr>
          <a:xfrm>
            <a:off x="4119480" y="3056040"/>
            <a:ext cx="1193760" cy="2454120"/>
          </a:xfrm>
          <a:prstGeom prst="rightArrowCallout">
            <a:avLst>
              <a:gd name="adj1" fmla="val 51400"/>
              <a:gd name="adj2" fmla="val 51395"/>
              <a:gd name="adj3" fmla="val 16667"/>
              <a:gd name="adj4" fmla="val 66667"/>
            </a:avLst>
          </a:prstGeom>
          <a:solidFill>
            <a:srgbClr val="ffd5a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幼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AutoShape 8"/>
          <p:cNvSpPr/>
          <p:nvPr/>
        </p:nvSpPr>
        <p:spPr>
          <a:xfrm>
            <a:off x="2806560" y="3087720"/>
            <a:ext cx="1241640" cy="2454120"/>
          </a:xfrm>
          <a:prstGeom prst="rightArrowCallout">
            <a:avLst>
              <a:gd name="adj1" fmla="val 49417"/>
              <a:gd name="adj2" fmla="val 49413"/>
              <a:gd name="adj3" fmla="val 16667"/>
              <a:gd name="adj4" fmla="val 66667"/>
            </a:avLst>
          </a:prstGeom>
          <a:solidFill>
            <a:srgbClr val="ffe885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婴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儿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>
            <a:off x="5419800" y="3087720"/>
            <a:ext cx="1193760" cy="2424240"/>
          </a:xfrm>
          <a:prstGeom prst="rightArrowCallout">
            <a:avLst>
              <a:gd name="adj1" fmla="val 50773"/>
              <a:gd name="adj2" fmla="val 50769"/>
              <a:gd name="adj3" fmla="val 16667"/>
              <a:gd name="adj4" fmla="val 66667"/>
            </a:avLst>
          </a:prstGeom>
          <a:solidFill>
            <a:srgbClr val="e5cbb1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前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>
            <a:off x="6688080" y="3087720"/>
            <a:ext cx="1120680" cy="2424240"/>
          </a:xfrm>
          <a:prstGeom prst="rightArrowCallout">
            <a:avLst>
              <a:gd name="adj1" fmla="val 54085"/>
              <a:gd name="adj2" fmla="val 54080"/>
              <a:gd name="adj3" fmla="val 16667"/>
              <a:gd name="adj4" fmla="val 66667"/>
            </a:avLst>
          </a:prstGeom>
          <a:solidFill>
            <a:srgbClr val="ddba97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学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龄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7858080" y="3087720"/>
            <a:ext cx="808200" cy="2424240"/>
          </a:xfrm>
          <a:prstGeom prst="rect">
            <a:avLst/>
          </a:prstGeom>
          <a:solidFill>
            <a:srgbClr val="d4a77a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6760" rIns="8676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青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春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1" lang="zh-CN" sz="3100" spc="-1" strike="noStrike">
                <a:solidFill>
                  <a:srgbClr val="ff0000"/>
                </a:solidFill>
                <a:latin typeface="Times New Roman"/>
                <a:ea typeface="黑体"/>
              </a:rPr>
              <a:t>期</a:t>
            </a:r>
            <a:endParaRPr b="0" lang="en-US" sz="31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826920" y="260280"/>
            <a:ext cx="7417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 小儿年龄分期及各期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胎儿期（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Fetal  Period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从受精卵（精子和卵子）结合到胎儿娩出，共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上将妊娠全过程分为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时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早期：受精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中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晚期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完全寄生式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易受有害因素影响，导致胎儿发育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流产、死胎、早产、先天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保护母亲就是保护胎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971640" y="981000"/>
            <a:ext cx="7632720" cy="542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新生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Neonatal  Peri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是指出生后脐带结扎到生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寄生式生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独立生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理调节和适应能力不成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病率高、死亡率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产伤、感染、黄疸、窒息、畸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监护        　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筛查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71640" y="1052280"/>
            <a:ext cx="7772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婴儿期（</a:t>
            </a:r>
            <a:r>
              <a:rPr b="1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Infant  Period</a:t>
            </a:r>
            <a:r>
              <a:rPr b="1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又称乳儿期。指出生后到满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周岁之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生长发育快，所需营养物质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消化功能尚未完善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免疫力低下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疾病：消化及营养紊乱、传染病、呼吸道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提倡母乳及合理喂养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定期体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计划免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促感知觉发育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700360" y="1915920"/>
            <a:ext cx="49687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黑体"/>
              </a:rPr>
              <a:t>儿科护理学的任务与范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儿科特点及儿科护理的一般原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9"/>
          <p:cNvSpPr/>
          <p:nvPr/>
        </p:nvSpPr>
        <p:spPr>
          <a:xfrm>
            <a:off x="1835280" y="522936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1979640" y="5300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00200" y="58039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771640" y="3573360"/>
            <a:ext cx="49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2700360" y="3500280"/>
            <a:ext cx="4968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小儿年龄分期及各期特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ctr">
              <a:lnSpc>
                <a:spcPct val="1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2700360" y="5300640"/>
            <a:ext cx="51847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的发展与展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00360" y="4292640"/>
            <a:ext cx="511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533520" indent="-53352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儿科护士的角色及素质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幼儿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Early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、语言发育加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与外界接触增加，但免疫力仍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食向成人饮食过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营养紊乱、传染病、意外事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促语言及动作发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防病、防意外事故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1025280"/>
            <a:ext cx="7920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前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Preschool  Childhood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速度减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能发育快，有强烈的好奇心，可塑性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出现变态反应性疾病如肾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期教育最好时期如学习习惯、思维的培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重视思想品德教育如遵守规则、交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生活自理能力　　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8172360" cy="53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学龄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School  Childhood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至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除生殖系统外，余器官发育接近成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智力发育更成熟，是接受各种知识的重要时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免疫力提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龋齿、近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培养良好学习习惯、端正坐立行姿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近视、防龋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971640" y="83628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青春期（</a:t>
            </a:r>
            <a:r>
              <a:rPr b="1" lang="en-US" sz="2400" spc="-1" strike="noStrike">
                <a:solidFill>
                  <a:srgbClr val="046ca6"/>
                </a:solidFill>
                <a:latin typeface="黑体"/>
                <a:ea typeface="黑体"/>
              </a:rPr>
              <a:t>Adolescence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）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女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男孩：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特点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格发育第二高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殖系统发育基本成熟，第二性征出现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病：心理、行为、精神方面问题如月经不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护理：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锻炼，保证营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加强性教育，建立健康生活方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4537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幼圆"/>
                <a:ea typeface="幼圆"/>
              </a:rPr>
              <a:t>护士在护理实践中承担的角色：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772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are Provid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照顾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Decision Mak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临床护理的决策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Health Educato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教育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-operator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合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Community Practioner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社区工作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The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atient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nterests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Vindicator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病人利益维护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Service Manager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管理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Researcher      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研究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539640" y="260280"/>
            <a:ext cx="8001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四节  儿科护士的角色及素质要求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75564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直接护理者：对患儿实施整体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教育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合作与协调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健康咨询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患儿代言人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护理研究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508720" y="259920"/>
            <a:ext cx="34639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一、儿科护士的角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00000" y="1628280"/>
            <a:ext cx="73152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思想道德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强烈的责任心 、爱护并尊重患儿（爱心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科学文化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专业业务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身体心理素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2" name="Object 3" descr=""/>
          <p:cNvPicPr/>
          <p:nvPr/>
        </p:nvPicPr>
        <p:blipFill>
          <a:blip r:embed="rId1"/>
          <a:stretch/>
        </p:blipFill>
        <p:spPr>
          <a:xfrm>
            <a:off x="5638680" y="3657600"/>
            <a:ext cx="2743200" cy="2209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0" y="259920"/>
            <a:ext cx="4400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儿科护士的素质要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761760" y="1557360"/>
            <a:ext cx="79246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一、儿科护理从无→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二、儿童保健网的建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积极开展儿科保健工作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婴儿死亡率明显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体格发育水平提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儿童营养状况得到明显改善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传染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常见病、多发病发病率下降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5" name="Picture 3" descr="bb1"/>
          <p:cNvPicPr/>
          <p:nvPr/>
        </p:nvPicPr>
        <p:blipFill>
          <a:blip r:embed="rId1"/>
          <a:stretch/>
        </p:blipFill>
        <p:spPr>
          <a:xfrm>
            <a:off x="6705720" y="3809880"/>
            <a:ext cx="1796760" cy="2540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684360" y="333360"/>
            <a:ext cx="7858080" cy="59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五节   儿科护理学的发展与展望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hecker dir="horz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三、儿科分支越来越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发育儿科学、临床儿科学、预防儿科学、康复儿科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四、儿科护士队伍壮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数量上增多，质量上提高。</a:t>
            </a:r>
            <a:r>
              <a:rPr b="1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3"/>
          <p:cNvGrpSpPr/>
          <p:nvPr/>
        </p:nvGrpSpPr>
        <p:grpSpPr>
          <a:xfrm>
            <a:off x="4495680" y="3429000"/>
            <a:ext cx="4496040" cy="3161520"/>
            <a:chOff x="4495680" y="3429000"/>
            <a:chExt cx="4496040" cy="3161520"/>
          </a:xfrm>
        </p:grpSpPr>
        <p:sp>
          <p:nvSpPr>
            <p:cNvPr id="199" name="Oval 4"/>
            <p:cNvSpPr/>
            <p:nvPr/>
          </p:nvSpPr>
          <p:spPr>
            <a:xfrm>
              <a:off x="4495680" y="5661000"/>
              <a:ext cx="4496040" cy="929520"/>
            </a:xfrm>
            <a:prstGeom prst="ellipse">
              <a:avLst/>
            </a:prstGeom>
            <a:gradFill rotWithShape="0">
              <a:gsLst>
                <a:gs pos="0">
                  <a:srgbClr val="66ffff"/>
                </a:gs>
                <a:gs pos="100000">
                  <a:srgbClr val="2f767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5"/>
            <p:cNvSpPr/>
            <p:nvPr/>
          </p:nvSpPr>
          <p:spPr>
            <a:xfrm>
              <a:off x="7590960" y="3429000"/>
              <a:ext cx="810360" cy="27900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002f"/>
                </a:gs>
                <a:gs pos="50000">
                  <a:srgbClr val="ff0066"/>
                </a:gs>
                <a:gs pos="100000">
                  <a:srgbClr val="76002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AutoShape 6"/>
            <p:cNvSpPr/>
            <p:nvPr/>
          </p:nvSpPr>
          <p:spPr>
            <a:xfrm>
              <a:off x="6043320" y="4916520"/>
              <a:ext cx="1473840" cy="372240"/>
            </a:xfrm>
            <a:custGeom>
              <a:avLst/>
              <a:gdLst>
                <a:gd name="textAreaLeft" fmla="*/ 0 w 1473840"/>
                <a:gd name="textAreaRight" fmla="*/ 1474200 w 1473840"/>
                <a:gd name="textAreaTop" fmla="*/ 0 h 372240"/>
                <a:gd name="textAreaBottom" fmla="*/ 372600 h 372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5e5e"/>
                </a:gs>
                <a:gs pos="100000">
                  <a:srgbClr val="00cc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640" y="1196640"/>
            <a:ext cx="7772400" cy="515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五、护理模式的转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着医学模式的转变，护理模式也从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疾病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护理转向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人为中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整体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六、服务范围的改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个人     家庭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医院      社会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从治疗、护理      康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Line 3"/>
          <p:cNvSpPr/>
          <p:nvPr/>
        </p:nvSpPr>
        <p:spPr>
          <a:xfrm>
            <a:off x="2268360" y="4005360"/>
            <a:ext cx="57636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Line 4"/>
          <p:cNvSpPr/>
          <p:nvPr/>
        </p:nvSpPr>
        <p:spPr>
          <a:xfrm>
            <a:off x="2268360" y="4653000"/>
            <a:ext cx="64800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Line 5"/>
          <p:cNvSpPr/>
          <p:nvPr/>
        </p:nvSpPr>
        <p:spPr>
          <a:xfrm>
            <a:off x="3492360" y="5229360"/>
            <a:ext cx="649440" cy="0"/>
          </a:xfrm>
          <a:prstGeom prst="line">
            <a:avLst/>
          </a:prstGeom>
          <a:ln w="284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7280" y="1268280"/>
            <a:ext cx="8856720" cy="516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儿科护理学的任务和范畴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小儿年龄分期及各期特点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举例说明儿科护理的特点和一般原则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举例说明儿科护士的角色及素质要求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十一世纪是生命医学的世纪。医学科学和诊疗技术的发展，大大提高了护理工作的技术含量，对护士的知识、技术和能力提出更高要求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066680" y="907920"/>
            <a:ext cx="7772400" cy="53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面临挑战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感染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精神卫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环境污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人疾病的小儿时期预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外伤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春期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基因诊断与治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00000" y="177300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国儿科护理工作虽已取得了较大的成绩，但与发达国家相比仍有较大差距，所以我们应当努力学习先进技术和经验，结合我国国情，使我国的儿科护理事业取得更大、更快的发展。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3492360" y="1268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d1496"/>
                </a:solidFill>
                <a:latin typeface="华文新魏"/>
                <a:ea typeface="黑体"/>
              </a:rPr>
              <a:t>结束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2"/>
          <p:cNvSpPr txBox="1"/>
          <p:nvPr/>
        </p:nvSpPr>
        <p:spPr>
          <a:xfrm>
            <a:off x="723960" y="1600200"/>
            <a:ext cx="76960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thank you !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130c98"/>
                </a:solidFill>
                <a:latin typeface="黑体"/>
                <a:ea typeface="黑体"/>
              </a:rPr>
              <a:t>儿科护理学概念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是一门从整体护理概念出发，研究小儿生长发育规律、儿童保健、疾病预防和临床护理的一门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76944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儿科护理学的任务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99640" y="1125360"/>
            <a:ext cx="801540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66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130c98"/>
                </a:solidFill>
                <a:latin typeface="黑体"/>
                <a:ea typeface="黑体"/>
              </a:rPr>
              <a:t>服务对象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ff6600"/>
                </a:solidFill>
                <a:latin typeface="黑体"/>
                <a:ea typeface="黑体"/>
              </a:rPr>
              <a:t>身心处于不断发展中的小儿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自胎儿至青春期的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内：儿科收治的年龄范围＜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周岁儿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国外：儿科收治的年龄范围各国不一，其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围已扩大到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8373960" cy="50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对儿童提供整体护理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Holistic  Nursing  C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，包括疾病护理、生活护理、安全护理、保健护理、心理护理等，促进儿童的身心发育，使其在德、智、体、美、劳各方面都得到充分发展，成为中华民族的优秀接班人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一、任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4560" y="1557360"/>
            <a:ext cx="8785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切涉及小儿时期健康和卫生的问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儿科护理学不单纯是一门专科护理学，还涉及到营养学、社会学、心理学、教育学、自然科学、文学艺术、绘画音乐等多门学科，根据我国高等护理教育的目标，教育改革的方向，加重人文学科的比重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7020000" y="404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二、范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4920" y="1483920"/>
            <a:ext cx="3095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楷体_GB2312"/>
              </a:rPr>
              <a:t>儿科护理的转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疾病护理                 整体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患儿护理                 所有小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单纯医疗保健机构             全社会承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3995640" y="2852640"/>
            <a:ext cx="99072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4067280" y="350028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Line 6"/>
          <p:cNvSpPr/>
          <p:nvPr/>
        </p:nvSpPr>
        <p:spPr>
          <a:xfrm>
            <a:off x="4067280" y="4149720"/>
            <a:ext cx="990360" cy="0"/>
          </a:xfrm>
          <a:prstGeom prst="line">
            <a:avLst/>
          </a:prstGeom>
          <a:ln w="381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不管在生理、病理、心理等方面都与成人有所不同，它有自己的特征，在护理方面也有其独特之处，因此小儿不是成人的缩影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394920" y="259920"/>
            <a:ext cx="799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 儿科特点及儿科护理的一般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刘云涛</cp:lastModifiedBy>
  <cp:lastPrinted>1899-12-30T00:00:00Z</cp:lastPrinted>
  <dcterms:modified xsi:type="dcterms:W3CDTF">2015-09-06T07:43:00Z</dcterms:modified>
  <cp:revision>2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